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B32-4709-41F8-BAAD-CC3F877A8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ically, whilst phylogenetics is riddled with controversies, phylo schema designs are relatively uncontrovers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C70-3E5F-4671-8C9D-A011592B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E30-7663-4612-A240-1F23FD8F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808-5702-402A-8032-9C24E9AD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D98-D4F1-4CA8-A63C-293C001E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AF9-534F-414A-B32B-846CE006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A64-CE05-4F2A-82AC-33D0661F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6F9-6675-4B86-91F5-A2AF2AD4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BA0-987B-49AC-A1D9-246E4D31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67E-800C-48FE-8095-118426ED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431-EF70-4E67-A0EB-6CFDD34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085-AB90-4FAC-A9AB-1689F041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B32-E48D-4E7D-BC6B-F6F3BFE6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B273-F790-40D1-A6AE-2A6EEB220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for evolutionary sci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HM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until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ational Center for Biomedical Ontologies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after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atus: ne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more community input!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Query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QL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no links to 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riginally intended for model organism mutant ph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aptable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sed on 2003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extensio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Diederich 199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mixed in with genetics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production use at Fly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ab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ntity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anatom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attribut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free text alternative to abov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tag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dev stag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_comparis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: </a:t>
            </a: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values (stat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heavy, l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red, magen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branched, cleft, coil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large, small, hypertrophi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long, sho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frequent, infrequ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bining entity terms and PATO te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11143-431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5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5328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15200" y="525780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153280" y="5257800"/>
            <a:ext cx="868320" cy="824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6248520" y="365724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43600" y="4876920"/>
            <a:ext cx="1371600" cy="4572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EAV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w phenotype XML schema being developed fo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measurements from attribut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osing entity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lue/state se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space and 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the ‘A’ superfluou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ternative to absence/numb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and NCB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riving biological project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-phenotype-dise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ol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annotation (EAV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counterpart to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etamodel (RDFS/OW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 relational view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v module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s part of chado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eelllll, the meta-schema is still evolving…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logeny and phenotype untes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input requir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ity of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may need to evolve a lo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lot of software still to be writte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276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 Letovsk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cott Ca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Lincoln Ste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in Wi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ichard Bruskiewitz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en Da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ill Gelba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981080"/>
            <a:ext cx="3276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orgios Gko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nte Wester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abian Neuh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John Day-Rich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chel Drysd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chael Ashbur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key concep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selected module t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genome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ntologies and termin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ylogen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evolutionary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character based descri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: attribute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76040" y="25750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l slides follow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</a:t>
            </a:r>
            <a:r>
              <a:rPr b="0" lang="en-US" sz="4400" spc="-1" strike="noStrike">
                <a:solidFill>
                  <a:srgbClr val="e3ebf1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lationships between pairs of featu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 constrained by S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rganism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ltra-sim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(only!) ent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organism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actually: tax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CBI taxon compat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unique(genus, spec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ch featu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linked to an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at about evolution?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723888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tus: mature, not yet in production u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 desig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ard Bruskiewitz (IRRI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dapter from Aaron Mackey’s desig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concept: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have a single parent (except root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ranch 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 belongs to one 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be linked to other chado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have data attached (e.g. statistic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: SQL func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 and SQL functions can greatly enhance queryabi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lemented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height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depth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is_monophyletic(phylonode_id[ ], outgroup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make trees of anything (within reason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axonom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eatures of any type in S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featu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lypeptides (prote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r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inks to alignment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Database schema for molecular bi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imarily model 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BMS-independ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stgreSQL, Sybase, Oracle, DB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as XML for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adoX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mes “for free”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rt of GMO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roperates with Apollo, GBrowse, Turnkey,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 use at various MODs and genome cent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: open ques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roversial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phylonode_relationship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DAGs!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uery efficiency vs redundanc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ttaching characters (phenotype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hing in place at pre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phylogeny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ylonode already linked to fea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features have sequenc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link phylonode to 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ure of link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at have we miss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: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basic EAV model sufficient f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yste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anaging multiple ver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tibility lay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lecular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via Bio::Tree in bioper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racter-based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XUS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/hard??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fede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conce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ix-n-matc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and ‘cv’s for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Normalisa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ver efficie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al (dbxref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(genomics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nalys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eno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ylogen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e3ebf1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bf1"/>
                </a:solidFill>
                <a:latin typeface="Gill Sans"/>
              </a:rPr>
              <a:t>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equenc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me key tabl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lo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pro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lays well with GFF3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types come from </a:t>
            </a: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S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sequence ontolog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precis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v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es and controlled vocabularies (‘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’s) are ubiquitious in Chad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 tab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term, or class in an ontolog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represent any ontology in OB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patible with RDF/RDF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tabl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s one parent; branch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pr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tensible tag-value pairs; eg statistic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fea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make trees from any feature 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2:45:27Z</dcterms:created>
  <dc:creator>Chris Mungall</dc:creator>
  <dc:description/>
  <dc:language>en-US</dc:language>
  <cp:lastModifiedBy>Chris Mungall</cp:lastModifiedBy>
  <dcterms:modified xsi:type="dcterms:W3CDTF">2006-01-20T13:15:22Z</dcterms:modified>
  <cp:revision>119</cp:revision>
  <dc:subject/>
  <dc:title>The Evolution of Chado</dc:title>
</cp:coreProperties>
</file>